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A1F-27EA-4C3A-9622-0F5632CB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B0E-B337-4A33-A780-24238EF1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C41-6D4A-40B8-A4C8-462A9FD2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70A-BCEB-4529-89EF-94CFAC6A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461-AC26-4516-BAD6-4D4D9C71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792-A4AC-4CA8-9E03-60777CE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081-EA1B-4F85-B694-2C5B6CC3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07F-B00C-4AAC-ACEA-211B135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F3D-0218-49DF-ADEF-AEBDC688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544-6E83-4C2A-8438-E617AA0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4DB-5CBE-4773-9C20-CA6671C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EEA-B8EE-4C0F-BE83-17C84E8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A97-9C63-4BD2-9B84-5F5BEF6E1C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zeng</cp:lastModifiedBy>
  <dcterms:modified xsi:type="dcterms:W3CDTF">2004-06-13T11:24:36Z</dcterms:modified>
  <cp:revision>15</cp:revision>
  <dc:subject/>
  <dc:title>Welcome to my class!</dc:title>
</cp:coreProperties>
</file>